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C842-4BA9-40CF-A6D1-1C4F34F9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0AB3-ECAE-42AE-8FE0-7D7AC430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C16-4CF3-44A7-AD3A-B3AE1BE6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188-DC76-4E66-B438-FF87D47A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09D-20A2-44EC-B5E9-EC81463B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9A0-9EC8-487C-B5F2-346BB290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9B4-66CA-470B-A0AA-A3B9C501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265-6F3F-459C-920A-57FB0C6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958-248C-4686-94B7-7CA3845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016-F5CE-49E5-89EA-F0161B7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3F1-5B63-42D3-83F6-CAB34DF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3F3-27C8-413C-B8E6-C11B062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77A-796F-432E-B815-6D47F5E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E97-4999-49D1-9119-F4657744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58FB-CD01-4872-B511-4C0A21B26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 1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971800" y="4038480"/>
            <a:ext cx="6019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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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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048120" y="3352680"/>
            <a:ext cx="5943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. Esta enfermo todavía ¿Por qué es fiesta mañana?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os proyecto es muy mala! Nosotros son va a fracas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971800" y="2514600"/>
            <a:ext cx="58672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atri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Estoy muy cansado. ¿Dónde vives? Nosotros somos listo para el fiesta! Nosotros tenemos abrir mañan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miras muy vieja! Chau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ra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048120" y="4876920"/>
            <a:ext cx="5867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muy bien. Tú eres muy linda en el sus fotos escuela! Tengo a trabajar mañana! Muy arrepintió! Escuch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 tu mamá! Hablo a tu hermano, ella es muy bie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h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048120" y="5562720"/>
            <a:ext cx="5943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! ¿Cuánto es el helado en escuela? Quiero helado antes su casa! Hasta pronto! Estamos muy 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j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048120" y="6248520"/>
            <a:ext cx="5257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hoy es una  prueba. Yo no puedo venir. Ellos son tienen un fiesta para Andrea! Pero te a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j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1905120" y="1905120"/>
            <a:ext cx="50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s mis amigos?  ¿ Puede venir a mi casa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1460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0968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28600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2:22Z</dcterms:modified>
  <cp:revision>118</cp:revision>
  <dc:subject/>
  <dc:title>Profile</dc:title>
</cp:coreProperties>
</file>